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gif" ContentType="image/gif"/>
  <Override PartName="/ppt/media/image8.jpeg" ContentType="image/jpeg"/>
  <Override PartName="/ppt/media/image9.gif" ContentType="image/gif"/>
  <Override PartName="/ppt/media/start.wav" ContentType="audio/x-wav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A0EC0-6A59-4056-93DC-4E27696346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D6729-6A43-4058-95D3-A2782DB4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B4F810-6622-4253-BB5A-AA652C32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748F9F-0E4A-4F60-A556-398B541DF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A9C219-455C-42DE-B6CB-37302321B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71615E-E6B8-4400-A195-E1DF109F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E5B73B-D6FA-410E-8B9C-4281D63F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2B7C8C-4BCF-4A93-ABC0-8EC4DEB3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D39C2C-8816-4A02-ACBB-EBFB973A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F67672-A42C-4945-85D8-E3E51E82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25B12B-013B-4FEA-B464-376C7316D6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461BF-26F0-4ED3-AF6D-FA9F072C8D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4EDBF-4E76-4BF9-9116-CF8EA8B6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36BF0-EFE7-47D2-B0E2-961D853A9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C3FC1-0297-466F-BDDE-5EE742FE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FCFE1-4834-4747-97E8-0D32B3DB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1482E-D67D-479F-AFFE-B76152261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27B35-F808-4D89-B9EB-49678015E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C7053-F2C2-4FE7-8911-F7655D09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ADC38-2628-46FF-900A-9E12B6F0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33754-6B5B-4C04-BF4B-0F63E2F2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51B37-E07B-48BD-A9F1-C01AC58F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A06FD-4181-4F03-97EA-9C8E8BDD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63E88-3495-4809-866B-A07F274580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416C3-204B-4871-B61C-F3F168D96B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A77316-C140-4123-9DFC-D66C7DAD05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1D71C6-CA1D-4A08-B565-6E2B8CA9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626D83-BC5A-49C3-9EEE-A7170090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8B41F7-AE66-47D7-AECA-C18A291C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924903-2C16-4089-BC06-F04915BB2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9DF183-B908-482C-92A2-CA1E683A8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2CB231-0415-4FAD-BA92-EECD5C1F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4BD02F-5D89-44BD-9B8F-389DD726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C09F40-6997-4BA8-A858-0E111B8F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955917-F36F-4AED-8778-7FB07BCDC8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65027A-529D-4CA7-AF15-1BA130DD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81F8AE-F94A-43CA-A321-F3F49E5B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D12DED-4B50-4AF7-9941-F3476AA733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8AFA12-F602-464E-83DC-DBA4205118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92B39B-DA66-4EB7-9066-4D7D8FBF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20EF09-BAA0-49D3-BA38-7BBCF272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4672F6-2C7C-432E-A4D2-376C9133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DC9D2B-3B56-488C-8686-E9F866CCD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C8F8AF-F213-4A91-BC74-9ECF41183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A609E3-3129-4132-811E-F9331A2E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16946B-1940-4CD8-BA4C-984D5FA5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6E545F-D8E5-4A36-899D-5B273118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F0A13E-2D3A-4825-95FD-44225201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58B08C-EB22-469F-AC28-996AC63B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9AD1D0-B78C-485A-AF22-8A7D7EF0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B66349-6381-4549-9FA0-434CF3AC30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3FFFA4-6B18-4CD7-8830-C16FB0E710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008F65-44B7-41A7-83F6-AB16AE8F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249F02-D286-4FF3-8BD3-E06A31A6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1B32A-24FF-411A-B3DC-FF4ADC0D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47E163-52F8-4D21-A4BC-39AB7076A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B50EA9-04E3-48A9-A2D7-0E10149D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9D03BE-1D6D-4EAB-828D-2B05D2F7C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B55BF4-D006-4D32-B568-68E7C211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09F20C-14B0-47A5-8627-46563BEE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2144E1-9F23-4312-8D72-4C9669DE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D3F89-4DB6-4492-A608-EAA0AF16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73265E-A4C8-4C74-910B-D5D11989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AF5A4A-257A-4EF6-AE07-0D69F13BED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10E4D9-A6BF-4E58-89AF-8931B8BF79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76E497-ABF4-44FA-861E-BBAAA2B6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D3B09D-FE9E-45EB-96F9-015BAF60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8A390-89D5-4861-A5AE-81FC28A1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7625DA-DEC8-4A0C-B329-1D5D6276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4405FE-5031-4369-B408-1A8D5D243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2B1D38-75E4-45B1-AA24-44E69DC72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F662E9-07C2-45EA-B58F-ED77A3F9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6EF01F-5A14-4005-815B-F386F61A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B3C9E97-502F-4F4A-B5E9-4E701C09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3CF7618-D7BA-44F7-831B-4D4C2BDE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A22BE5-701A-471D-BC62-83DBC38A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504A6A-A430-4DF0-A48F-7E7573E31E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5A24A9E-8F1B-4B32-9FD3-EB9E1ABEC7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AF7736-E577-4118-AFAB-51DAB1E2C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2D8ED31-6BF2-43D2-A326-39BB8A2D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30F3C53-637B-46B9-9E48-53FCFDFD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0056D64-A3E1-4ACF-A4C7-48CFACC9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7130E92-4305-4650-8973-52FAF6EF4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914BC16-F638-40D5-940E-349E4956A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9C127B6-5985-4678-AD61-20BA8A92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CB6A42A-F7E3-432F-B6CE-E71C1953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E81F26C-70FD-4643-90F5-61CFF62B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CF191ED-2548-4733-B235-5A1885B1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DC8E892-FE04-45CE-A917-1A57F60D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984380-10D0-4831-827B-0EB5D79DE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E9B79AC-4CF6-43CB-841F-69C1C9E639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B83DB4-4572-41CD-BD09-F3DEF02169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69F5A-D185-4A4B-B75A-EB649415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DE7F89-D1A8-4EE9-AF5E-FA8A9ADA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A1DE9-7EBE-4C18-B98D-4442D987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33280B-4BF4-4242-A5B9-503A866A9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874294-2511-4C3A-B98D-E7701FF73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28E0B-0081-45CE-A4F2-6CD07BBB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6F6620-FB1D-42C5-B3EB-E8F08ED2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42FE71-12B6-43DA-9AEF-F925542C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4E6844-D83F-4D84-A032-EB8BAFCB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A0C70-F11D-4B96-B346-605288C9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88614-33BD-43AD-8415-906A8F34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6117B8-079B-4472-8115-DDB85872AD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420A053-5833-4A42-A0DB-75B095C135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065FBEC-30EF-46F0-85AA-82EBBA3B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985CE83-19AB-4035-B1BF-EA0A0F27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11E7CE6-C807-42A9-93AD-066FCD39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3AA9C9F-0EE6-4D9D-B908-210A27048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A2B1F9B-B307-44C9-942E-1D7B80921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48574BD-F166-4FF7-9AFF-9FB9FF2D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705A7-D7D9-4B10-87E7-D4225FFB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B7F593-FD47-4C88-AE1D-26AB19E1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507ABB7-31AC-4123-BBDE-4450D5E7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40CB077-B19F-49A2-9FAA-7349F005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46E495D-183D-4B0F-85A7-477DD82D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220BE87-7BC6-4697-AA50-B50E3A50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AA450CC-3FBD-4896-8BCF-AC4276F044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12C2337-B4F4-4ACF-B33D-E6FA30B669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A719FFC-0AA9-4D26-8419-D25A34C0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681EE99-7C12-46FD-B3DC-194E40B2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72A8022-CB52-4CDF-9736-4AD5C5B7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BE62A99-7457-4414-8A96-4FF47FB8A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693FF3-3B19-4D08-BA3E-85BF101C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4F5F9B7-A0AE-4256-A49E-1791E8F0B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5C595B1-1690-49ED-AB23-905AEA74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40F9E4C-C2D7-4EE5-B9A3-51CAD0FF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81854A7-CC17-4ED0-9C46-ABC8225F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41F2799-3469-4B4F-A374-80DD5DBE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5771AE0-D657-4675-8A6C-9BAF3BAF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20E4B13-2CBD-416D-8EDD-F764F93415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BF76C3-CD44-43AE-9853-B16D2C7D0F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D8C2AB-2E85-4F3C-834C-7B0FACCB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35542E-2DD8-4420-8684-921F4CD7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65EB27-2C51-4160-93F0-CEA3F630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C99E56-BDF1-4468-B895-D19849F8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D47E88-F9A4-44D2-959A-4F0224236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1C0532-CE6A-4638-A235-51C702895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F865E9-8669-4573-817B-7B57E244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396F29-9D75-4F03-8B9A-B8A45D59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A5A167-61AF-40EF-B4DA-1487C727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7D4545-8C64-4AE0-BB68-C4387D7C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9D6375-07A7-4017-B76F-DEF6C50B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1FDFEA-9F85-41D5-85F5-0A67A7CB3D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83363DF-6718-4EAC-8A12-8E1214F3B9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10546D-B086-49AE-BCCA-EE3CEB75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343E388-84A3-4DEF-86A1-E96F1395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1965282-6988-47D2-9564-E020F40C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F5AD9CC-00C2-4782-97BF-5FA20270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06D2A8D-1264-4723-8E8A-275D89C5D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A6F6ADE-5BE8-44FF-861C-7F6B79D2C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335DA87-30B5-472D-9F0C-D45AB6A2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87E47E5-071F-4AE2-8663-B19BB992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836CF8A-BCA6-461F-A370-52014003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CCF16DE-2228-4BFF-91D0-FB9B7203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53A6596-B19F-4CC2-8CB5-E6ECFD6F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655C36-F53A-4B69-A428-9134030CF3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8D5AAD2-C7E5-40A3-82CF-51871ADE35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EF65413-D82F-4F90-B9C8-1657C3622F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8586964-6D8B-47DC-83E2-87360A7E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D61ABE8-AE64-48F9-9970-5ABD2442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E057546-3711-47A3-8BE3-5CEC5D2F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1C9EA12-DEEB-4227-BA1F-08FC30361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7945B28-D50E-4CD9-8DCA-8E06A6132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7881904-ABAA-4FDC-931F-C7354EB7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11D67D9-777F-46F1-A431-95F123CA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CFBCF50-0335-42B7-AF17-01E3EBF2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C9AF60-B685-4B04-A65E-819948432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6176155-F64A-4D1A-A491-22B4277F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F7D085A-C0F6-4DA4-9D2B-4347A149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7E9B559-AE4C-4940-B730-F436161080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84A0B2-C816-4F52-B703-6463950689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E99CC1-BB51-4E62-AD41-F7BEA5C8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5AE135-3395-4DAA-805D-D77308A8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7CBCF2-41B4-4781-8DB0-5B67AADA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FF39F4-80D2-4E3A-9B82-7850FD174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969D65-147D-4C66-BE8D-599E7104E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951143-1CBF-4C4D-AA2D-2F4BDA60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922A04-81B8-41A4-8DFB-3CD42D8D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57233C-C4AF-44E9-A24A-532BEBA4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C7BEF1-B64E-466C-B960-5AFE934A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089BA6-F62A-4410-B1C8-16E8CFFC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10C869-9C55-4EA8-98C0-778E8900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ED69F6-2915-47BA-8902-E3A66B5AC5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5D979BF-DC66-40DF-9D06-A711AABD3C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9B5E6D5-E4DA-438E-B140-96BD99ED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2126254-6C34-4592-96A5-4156FEA4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666F44E-83D2-46AA-A30E-6415436E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50EAD26-65EA-47EA-8CC7-09D85357D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D4E9B6-4CE3-420D-8367-2FBCA22E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C25B17D-DD88-4A4A-8E87-5D9DABEF7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B596DD7-FA83-4BDB-B15C-654544C7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531719F-6346-4CB4-8836-1E564344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2519513-93AB-47A9-B570-DCBC994E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5FAE375-BA14-491F-B5F6-D2CC6008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25739F5-3146-426C-85B4-E0E626BC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5EA1735-D2CB-4FB3-985C-C00A0B1654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EFED5A6-349B-4BD8-AD8C-6644D27CDF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AA2417F-681D-4788-B31B-E32FE1BF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CA25288-46A2-4771-84E7-0BAF29F7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A7D90A-7F2B-43EC-B1F4-0433AC8A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BE02BB3-D32C-4723-82DE-CCC9A0D2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22C8E3C-8836-430D-92F4-9DB45F02F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8073688-A5E7-4F4C-A899-1CF328C39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D25693A-15E3-4A34-A7A5-9D9F0EA8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D3B1685-FEBE-4E2A-8D8F-44255E52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F560ECE-8F84-47F8-A3C2-2579BCBD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58F3136-48B1-449E-8637-400A442D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873FD91-2109-4148-BF37-DD45FD41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78DC6D4-F7C9-4B8D-A91F-EA49A5A2FF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C24A4D-4DE6-4082-8E89-96CFA5185B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FFC103-EE49-4965-8569-280FDAC3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D31272-6414-41AC-9729-F6E1E7CE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9D1032-D672-4728-B467-3C52A035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B69C32-3C34-4533-9B02-6BB94D1C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FAC3D0-5B4C-46A9-9500-38AF3E140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AE7963-B2CF-4BAD-B2BF-A4AA658F0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2606F9-BDAA-4A42-8729-FF54098A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47FC09-F5D8-4D55-8035-EA7D422A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7748EB-F3A8-4485-BD16-D89679A3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5B4CAA-9A8D-42CE-93FC-72CFE923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C26E00-DA1F-4FB2-9C9A-9A1DF1F0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8A614-42E5-4766-BF00-771A356A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561817-0694-40F2-9D1F-D5902164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6C659C-D9C6-4EF2-8FEF-539542F4DF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0D4EB3-75E5-4173-B00F-3733BF4A9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74FEEA-48F5-4D1F-A4E8-BA4C6665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829FB1-9D15-4A41-B7C7-EEE14025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78CE6F-50E0-4BA3-B7D8-C882C07C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3B4D16-26B4-4F8E-9C27-59E94C1F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01ED55-263D-4203-A7DB-DB6A05E2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9842D0-EAB0-4064-B3B5-51057E88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7A6EF4-F317-4F45-B81B-0A8D9D31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D37D0E-84DA-430D-8A35-BA346F33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C8E67B-5563-4A98-86C0-28445A2C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7D6AF5-F71F-4C77-824F-9A8500E5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24486D-06C3-464A-B4BE-49C8DE626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7B6169-CF1A-47EF-8915-13F215C99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E29109-B05C-4183-8AFD-ED476EECC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96738A-0031-45F2-A0A8-482A9487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963086-80CA-4E8A-8D03-9153AACD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9812D2-EA95-4206-8495-1B69939F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B315B0-21E0-4D93-8689-5C65C436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DB624D-F5EF-4F48-9C00-0EBCEDF7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E47DEB-0276-432C-B0E7-867CE4C7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81A0B2-8547-4391-884D-9A569EEF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0AD2D8-3A09-490C-970B-D67CD70C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DE12FD-B4C0-4964-A392-5CF875D9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29B019-58E0-4530-8CC5-58428C96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3940B8-EDE2-4A3F-8AFE-37D3CA557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07A42A-038B-4F3C-8FC7-42AB15B0E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0A2B7A-15EE-4FBA-BE65-0F79290A4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5CABDF-2EA7-42E6-B814-3D976655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D1A984-2881-495A-A402-EBAC389A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D68540-CA46-4911-8864-8CDEAFA5B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7C2F69-4AF8-4498-BA06-9AF01F6C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211C64-B996-423D-9284-6F6737B0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27AECC-DDF6-4D83-B81F-38146A4B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EE3F69-7BBB-46C4-9C8C-4B61BC44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AAD29B-7C2D-4089-9B46-DFEC2E82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1E8583-21E7-41C2-B4C3-CCE64ADB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B822BA-1DFE-4C59-920B-AB424D80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0E818E-6AD4-4876-9F36-7C1820B31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49A466-2B83-4AF1-AE76-9D95F09DD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97099E-839C-405A-8FF4-A9DA93A9A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6EB954-646B-49D6-AD2C-4996AB10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B39985-295C-44B2-A887-195BDE1F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9F6914-1151-4935-BF9A-87D39617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C50CAD-CD83-4950-88EF-76BF95F7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4123E0-A1A7-4726-A438-9FE6C073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56F8D3-1561-4BC4-B96F-AED2C4B1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F808FB-8DBA-445E-97A4-123B58AC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E2DD3E-4B54-4732-814B-32E2AA7F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E3F4B6-825F-4A50-97DC-25C4B83F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5710C0-3A4E-4C62-A719-05E40E81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8FB5F7-6F3F-4563-AAB6-8D1BAA13E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249864-D617-4BE0-9BE0-895D2B991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6645BC-B81F-4708-AA38-03BD66116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E49F81-B605-4D25-AFE3-6C70C3B80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736271-D710-412A-8063-0F954103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0270CF-03D9-40D9-B191-BFBDFE69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6F26B9-C96E-4208-BF9B-F513FC29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A323DC-0062-4444-8171-6FB46F06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EEA93A-DB60-4CFD-9875-54860852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091290-59F0-49CC-83B0-82465C29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C471AC-15C1-4726-A8B9-9FEEE063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A3E4E5-20E9-42D1-A60F-333799C4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6AE874-C7CA-4E87-839C-510EAC3A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0339A2-64DF-4F8E-9A93-B18E50330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691A49-EF80-4A30-88EC-53E351AB3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E9B47C-0051-4ECA-AD98-DC3F8C945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159E56-1381-456B-9664-DC87BFFE1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A4D54E-4163-4967-8088-AD449BE7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5AE1B9-EC79-4CB9-AF1C-33BB7D36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2E4A41-C269-4C91-AE14-2B4B84D7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FC4AFA-D789-4B54-83AC-63B1202F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23EB1F-7088-4BD0-8295-E4495913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BD24AD-733C-4899-B655-704E5D0C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8DD680-BD09-4AC9-AB3A-573E4057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D7C091-A818-40ED-AF25-2E6C9BAC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32D14-44DE-4B40-8F26-27F287DC36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AAD2F6-5BA7-421D-AD37-925B1AF6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903159-8D52-4745-89CA-8BE3A7E75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276B49-4EE1-4BC5-964B-BC3541203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5873EF-93F5-4405-B303-528BB1D50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E9EB87-7DF2-4B79-A31A-70467345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B2E5CAB-1E84-4510-AADB-6F346FAF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BF466B-5552-49A2-909B-5D1EEB97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8D63800-B85E-4D0D-AF97-E85E2692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FC8A83-5F98-45DF-B2B5-24EC7D83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58C8D0-C217-4670-B432-D9E53BC8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F9CCE-3B3D-4543-89AB-50458E77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5358B3-2003-4F1F-98AF-57C433E5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E12BAA-AD9D-4CA4-8817-AF9252FF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37A5A5-71D9-4090-9DBE-C9DE47B8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E66701-917F-4D5A-8BC1-B387F9D34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F4300DC-C4D3-4B66-8A14-0689D3543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DB49ED7-52E3-4070-B35B-905C149F8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809DBC2-87BE-4692-AE10-FE882112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572CF7E-47DF-4E19-8C6A-29086EAD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704397F-DB29-4FB3-9E3E-78F29C03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6CA3035-630B-4B39-BF08-E55F2E3F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DC416-828F-4101-836C-0BBC945B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3FB2FDB-128D-4E38-B628-E67EB3A2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22B77D0-5B6E-4361-9040-2706EF28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DEEE7A4-143C-4FB1-8584-07DFAC55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A0DC977-D88E-4D15-9DD9-FFBE3834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E6FA5B-6C00-402C-B6B4-4272760D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4D8CC45-F89B-4224-8C72-18D57DB53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64A3BA0-E3F0-4094-8230-1CC96C7BA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4138CFE-069A-4726-BC1C-BA72399DF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BD46F3A-2870-4F79-A9BA-19042040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E8F9726-1B75-4B20-B6B5-A2EFBC78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84FBF-642F-487B-ABF8-D0912FDC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A96F7-8180-4018-B44C-0E0912DD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73CEDA8-C84E-4263-9145-BE0DE35B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3E70CDB-76DE-4D68-9786-44420C8A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85548F4-055D-483E-BCFF-2FD65F5C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4AED015-AEAA-47BB-BA42-6EF15BA0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85E531D-5CDF-4FA4-8653-B09589A2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E4ECCAE-594B-466E-A623-7FB5500D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BB066DA-90C2-4A53-BFA0-90150AAA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4440D2C-26A2-439C-923E-4128F06B2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DE24B77-8B57-4A62-B708-3E98AE991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74611D7-C2A6-4E63-A7D1-A3547A2EF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7A83C-C43F-441B-81CD-4B84A6C79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2F04816-7579-4D73-A9FC-B808CA96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592292A-7787-4104-941F-E368E8F4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AFB0F20-97C6-4181-9BF7-9945EC59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5B0C4D3-5E3A-49F5-B84B-C2951A42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D588519-8A59-4F78-B2FD-2E7E4FF2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BDC0287-563B-42F7-98CB-542E371B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7820AF9-C310-4C11-8981-B38A645D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EB5ECB2-6118-49A0-BB08-96A998F7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7095CBA-5077-42B3-84BD-BBE0E1DC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F5DC9B0-CF06-4FCB-80DF-CC790AA00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B0083-9C3E-40FF-98BD-8F13D5A49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6A4E089-5562-4667-8603-0AAD46BD6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DDF7308-9C5E-4652-BA32-8A90F9931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E8E96A9-009B-469B-8DA3-6C9D229B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8B58D4A-C84B-4B4E-A28F-F96424CE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1A758C2-EC02-4C73-B246-EA326118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4E1491D-9797-4B44-A9CA-C6457C94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C53064D-FB8A-4446-B3FD-53FEE746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343813E-3DFF-4320-90CC-62B296F3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FD157E2-103B-469D-A5B7-4FDC240D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C446439-F732-4D8B-B1DF-27C2B1AC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B3DDB-E715-431F-8312-4255060A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AD9F9D2-766C-499B-BCE3-BCCD79BE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0CE30D6-FD20-48D2-A849-1E0A01FAE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D754CA3-1D30-427B-8922-F28D55F08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BB914-B228-43D7-8AEA-044A4D30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41196-CF98-477C-8173-3915A17F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A06D9-C424-4782-87A2-52F0E97A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5F6AC-551D-4AA1-AD63-71422100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537F9-31BA-4239-B435-C5F634C90D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A30206-1B18-4555-9381-D4B3704461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558A0-2A9F-430D-87E7-1DC987380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A8147F-807E-4796-86DD-4D0C1C33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8DCF6D-0D67-477D-AAF1-4FA1AA27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20F4A5-AAA0-47B8-8717-18644D86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F77532-C6D3-4B65-B1E4-FBD794914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E5F82C-C365-49FA-A50D-63A2A370C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08FAEF-6262-43A0-9F59-D35A2FA3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1599B9-B30D-48B0-BDA1-191B07D5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55538E-C9AA-4891-9ECE-3B927325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4B83A9-BC0A-4CAF-AE2F-82F3194B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DD108D-D0ED-4A67-8CED-000A7609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2BAF9-2E92-4432-8FA5-499150BB5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F529EC-F638-4B77-83E9-02A2B0C5E6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8949D1-74FE-4E5E-B6EB-78D9C7EB89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D49D20-A68F-445C-973E-E6F76944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2735C2-D652-42E0-B015-92AC1530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497371-C6AC-49A3-8397-E3D2E973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EC7286-E8C9-4FAC-8EB5-C5D96854C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ABD4EE-D519-46D7-903E-5D45932EB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D27998-72E6-447E-A3BF-388FDB39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D99429-9A33-4327-95A4-7E980D2A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898532-47EC-4541-B3D3-94218FCA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808BF-4945-4B14-8B94-AED5E925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C84790-890F-4646-9A0B-2884AD88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63D9AE-1CA7-4E84-A71B-DDA48E29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E879EC-4EAE-4518-AABC-F71475214D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566C8-A6F2-431A-A064-677CBEC583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49231-6385-4C8A-B5B7-D12C0640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CA514-60C8-45F3-9E04-85C48B24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B2213-D6C4-4C85-B35A-21850AA8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78B8C-DAD3-4F42-9720-4F4AD09E5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DEEAD-7F5E-4F16-AA1F-6812CF3C6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91037-0A3F-4FEC-9227-46680FC6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02D08-78CA-406D-82D1-BCC45DD4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7073F-8A70-474E-8B05-8C5557C4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281C1-AACA-4099-A722-976D0A2B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4C4B0-9B8E-4F76-AED2-22F08A6B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53362-ABD7-4C35-9BBA-61F906F3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2064A-53AB-49CC-8DC5-664B94CF5B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E5BE25-D15F-40F5-8893-7D9B7A671B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76ECAA-695F-4974-B7D6-F2F22B1F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3A4E24-F0BB-4513-8551-6975E3A7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15D3E4-3B61-4606-8BB4-98456D32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0EFA2A-285B-4319-95FD-4589AACED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9B896-0707-418E-92CD-7D40EB7E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EE1E8C-76B0-4926-B82C-FAB6D1F75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29E6B9-2E42-49BA-917A-DA8249FB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C47A7A-FF02-4DFA-B546-5D693155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1D134D-BB4E-4AFA-8607-50719ED0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E733AA-A2CF-473E-B891-7D38889B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AFA885-D8F7-43B2-A14C-FAE8B181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7D9900-BEE9-4A67-886D-630D2E9479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9A0B0C-F891-4805-863F-C528BAB478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F7CAFC-997D-4C54-A7C2-519A4CD2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F4EC80-86B3-44C6-923E-508E413F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969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9698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9699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29700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29701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29702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29703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F4A5-F781-4E2C-9EB3-A3B3596009C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370D-601D-4BED-A18C-0C18E1069EF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71E1-12C8-4AB1-9CB8-9098DA57B0D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104B-4B00-4FE4-914E-9D833F0C2C8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E87A-EE4D-4AF9-8893-4E38BC734E8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98C0-EB08-4018-A7BD-2743134D27B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EA54-B074-42B8-9463-01A630262CA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3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9A65-77E5-49C1-B106-1FED1A419D2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AF51-F3B9-465E-B8FA-E3947AF5ACE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3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F01E-69AF-471D-8B56-26060DF2F83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3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CAFC-2CD6-4478-A617-C90E03E79E7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1CEF-0BCC-43D4-BBB7-32D932A5C72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0BF5-4405-4818-BED6-50EB9580809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sldNum" idx="4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1C05-04B6-4C3F-80B6-356B53CC86B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4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C00E-E177-4677-8C20-6C701A6649B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BBEC-0DC4-4F07-9771-CE666DDA03C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 type="dt" idx="4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 type="sldNum" idx="4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2872-2EDF-4FF3-8D73-6DA9CAE8480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dt" idx="5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96C4-0C16-4D67-B54B-D18440C1403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57C7-7DC4-4215-B3B0-F404AD427998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DAEF-593F-4999-B5A7-D262977E7DA1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6E8B7-AC79-4F3F-8868-C2872854023B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 type="ftr" idx="6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7618-3F42-4AD3-ADFB-45250B52208C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95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96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7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8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9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0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810D-1C6C-4DCC-BCD1-FF402CB31C7C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 type="ftr" idx="6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84CB-E580-4B2E-B0AD-034B4612C61D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 type="ftr" idx="6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5F65-5D2C-4D8B-807A-9F67E7DFC890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 type="ftr" idx="7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CC81-9E1F-4F36-9F69-4F8B3F138BE0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 type="ftr" idx="7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A08E-190B-4821-B1AF-07ECB25659EA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 type="ftr" idx="7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44D4-FD6C-493F-86BD-21AB8F8002A2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 type="ftr" idx="8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9CCD-B399-4C06-8F02-9C2960B73AC2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 type="ftr" idx="8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FF43-6EF1-4619-B679-9F8DF38CDD44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30721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143" name="椭圆 30722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4" name="椭圆 30723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5" name="椭圆 30724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6" name="椭圆 30725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7" name="椭圆 30726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8" name="椭圆 30727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3854-E209-4BF7-9A7C-57EE77EECD9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FFB2-3543-4DE5-82F1-537CDB92DAC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38D2-4F41-4B44-B688-59F12010EA2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5AA7-BDBA-42E7-A856-92351FD3860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C8DE-CB2A-46B2-85E3-33EC6244392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68DD-0AAE-41E4-8A19-F890E60CED2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4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4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audio" Target="../media/start.wav"/><Relationship Id="rId14" Type="http://schemas.openxmlformats.org/officeDocument/2006/relationships/slideLayout" Target="../slideLayouts/slideLayout2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矩形 25601"/>
          <p:cNvSpPr/>
          <p:nvPr/>
        </p:nvSpPr>
        <p:spPr>
          <a:xfrm>
            <a:off x="269640" y="5176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1" name="矩形 25602"/>
          <p:cNvSpPr/>
          <p:nvPr/>
        </p:nvSpPr>
        <p:spPr>
          <a:xfrm>
            <a:off x="485640" y="5392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2" name="Rectangle 7"/>
          <p:cNvSpPr/>
          <p:nvPr/>
        </p:nvSpPr>
        <p:spPr>
          <a:xfrm>
            <a:off x="1692360" y="620640"/>
            <a:ext cx="52830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位置与方向（二）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3" name="TextBox 3"/>
          <p:cNvSpPr/>
          <p:nvPr/>
        </p:nvSpPr>
        <p:spPr>
          <a:xfrm>
            <a:off x="1332000" y="2133720"/>
            <a:ext cx="40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例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路线图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Rectangle 2"/>
          <p:cNvSpPr/>
          <p:nvPr/>
        </p:nvSpPr>
        <p:spPr>
          <a:xfrm>
            <a:off x="500040" y="357120"/>
            <a:ext cx="40719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一、情境引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5" name="Rectangle 26"/>
          <p:cNvSpPr/>
          <p:nvPr/>
        </p:nvSpPr>
        <p:spPr>
          <a:xfrm>
            <a:off x="285840" y="5929920"/>
            <a:ext cx="921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想一想，在说台风移动路线时，都要说明什么？（方向，距离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6" name="矩形 19459"/>
          <p:cNvSpPr/>
          <p:nvPr/>
        </p:nvSpPr>
        <p:spPr>
          <a:xfrm>
            <a:off x="971640" y="141300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此次台风的大致路径如下图。你能用自己的语言说说台风的移动路线吗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487" name="图片 19460" descr="25"/>
          <p:cNvPicPr/>
          <p:nvPr/>
        </p:nvPicPr>
        <p:blipFill>
          <a:blip r:embed="rId1"/>
          <a:stretch/>
        </p:blipFill>
        <p:spPr>
          <a:xfrm>
            <a:off x="250920" y="2060640"/>
            <a:ext cx="8319960" cy="3959280"/>
          </a:xfrm>
          <a:prstGeom prst="rect">
            <a:avLst/>
          </a:prstGeom>
          <a:ln w="0">
            <a:noFill/>
          </a:ln>
        </p:spPr>
      </p:pic>
      <p:sp>
        <p:nvSpPr>
          <p:cNvPr id="1488" name="矩形 19462"/>
          <p:cNvSpPr/>
          <p:nvPr/>
        </p:nvSpPr>
        <p:spPr>
          <a:xfrm>
            <a:off x="7038720" y="350028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9" name="矩形 19463"/>
          <p:cNvSpPr/>
          <p:nvPr/>
        </p:nvSpPr>
        <p:spPr>
          <a:xfrm>
            <a:off x="7254720" y="371628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Rectangle 2"/>
          <p:cNvSpPr/>
          <p:nvPr/>
        </p:nvSpPr>
        <p:spPr>
          <a:xfrm>
            <a:off x="500040" y="357120"/>
            <a:ext cx="47926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二、探究新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1" name="Rectangle 26"/>
          <p:cNvSpPr/>
          <p:nvPr/>
        </p:nvSpPr>
        <p:spPr>
          <a:xfrm>
            <a:off x="5292720" y="234792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台风生成后，先是怎样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移动的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2" name="Rectangle 26"/>
          <p:cNvSpPr/>
          <p:nvPr/>
        </p:nvSpPr>
        <p:spPr>
          <a:xfrm>
            <a:off x="5435640" y="3154680"/>
            <a:ext cx="37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然后台风改变了方向，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又是怎样移动的？ 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3" name="Rectangle 26"/>
          <p:cNvSpPr/>
          <p:nvPr/>
        </p:nvSpPr>
        <p:spPr>
          <a:xfrm>
            <a:off x="5435640" y="3932280"/>
            <a:ext cx="37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最后台风是怎样移动，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到达了哪里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4" name="Rectangle 26"/>
          <p:cNvSpPr/>
          <p:nvPr/>
        </p:nvSpPr>
        <p:spPr>
          <a:xfrm>
            <a:off x="5425920" y="4687920"/>
            <a:ext cx="38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你能照样子完整的说一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说台风移动的路线吗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495" name="组合 20486"/>
          <p:cNvGrpSpPr/>
          <p:nvPr/>
        </p:nvGrpSpPr>
        <p:grpSpPr>
          <a:xfrm>
            <a:off x="324000" y="2133720"/>
            <a:ext cx="4689360" cy="4497120"/>
            <a:chOff x="324000" y="2133720"/>
            <a:chExt cx="4689360" cy="4497120"/>
          </a:xfrm>
        </p:grpSpPr>
        <p:pic>
          <p:nvPicPr>
            <p:cNvPr id="1496" name="图片 20487" descr="25"/>
            <p:cNvPicPr/>
            <p:nvPr/>
          </p:nvPicPr>
          <p:blipFill>
            <a:blip r:embed="rId1"/>
            <a:stretch/>
          </p:blipFill>
          <p:spPr>
            <a:xfrm>
              <a:off x="324000" y="2133720"/>
              <a:ext cx="4689360" cy="22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7" name="图片 20488" descr="27"/>
            <p:cNvPicPr/>
            <p:nvPr/>
          </p:nvPicPr>
          <p:blipFill>
            <a:blip r:embed="rId2"/>
            <a:stretch/>
          </p:blipFill>
          <p:spPr>
            <a:xfrm>
              <a:off x="395280" y="4292640"/>
              <a:ext cx="4545000" cy="233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8" name="文本框 20489"/>
          <p:cNvSpPr/>
          <p:nvPr/>
        </p:nvSpPr>
        <p:spPr>
          <a:xfrm>
            <a:off x="539640" y="14842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描述路线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9" name="ShockwaveFlash1" descr=""/>
          <p:cNvPicPr/>
          <p:nvPr/>
        </p:nvPicPr>
        <p:blipFill>
          <a:blip r:embed="rId1"/>
          <a:stretch/>
        </p:blipFill>
        <p:spPr>
          <a:xfrm>
            <a:off x="357120" y="284040"/>
            <a:ext cx="8371080" cy="6280200"/>
          </a:xfrm>
          <a:prstGeom prst="rect">
            <a:avLst/>
          </a:prstGeom>
          <a:ln w="0">
            <a:noFill/>
          </a:ln>
        </p:spPr>
      </p:pic>
      <p:pic>
        <p:nvPicPr>
          <p:cNvPr id="1500" name="图片 21506" descr=""/>
          <p:cNvPicPr/>
          <p:nvPr/>
        </p:nvPicPr>
        <p:blipFill>
          <a:blip r:embed="rId2"/>
          <a:stretch/>
        </p:blipFill>
        <p:spPr>
          <a:xfrm>
            <a:off x="343080" y="281160"/>
            <a:ext cx="8400960" cy="627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Rectangle 2"/>
          <p:cNvSpPr/>
          <p:nvPr/>
        </p:nvSpPr>
        <p:spPr>
          <a:xfrm>
            <a:off x="500040" y="357120"/>
            <a:ext cx="47926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二、探究新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02" name="图片 22530" descr="27"/>
          <p:cNvPicPr/>
          <p:nvPr/>
        </p:nvPicPr>
        <p:blipFill>
          <a:blip r:embed="rId1"/>
          <a:stretch/>
        </p:blipFill>
        <p:spPr>
          <a:xfrm>
            <a:off x="1035000" y="2708280"/>
            <a:ext cx="6993000" cy="3598920"/>
          </a:xfrm>
          <a:prstGeom prst="rect">
            <a:avLst/>
          </a:prstGeom>
          <a:ln w="0">
            <a:noFill/>
          </a:ln>
        </p:spPr>
      </p:pic>
      <p:sp>
        <p:nvSpPr>
          <p:cNvPr id="1503" name="矩形 22531"/>
          <p:cNvSpPr/>
          <p:nvPr/>
        </p:nvSpPr>
        <p:spPr>
          <a:xfrm>
            <a:off x="1254240" y="1557360"/>
            <a:ext cx="15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画路线示意图 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04" name="矩形 22533"/>
          <p:cNvSpPr/>
          <p:nvPr/>
        </p:nvSpPr>
        <p:spPr>
          <a:xfrm>
            <a:off x="7038720" y="350028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05" name="矩形 22534"/>
          <p:cNvSpPr/>
          <p:nvPr/>
        </p:nvSpPr>
        <p:spPr>
          <a:xfrm>
            <a:off x="6967080" y="49417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2"/>
          <p:cNvSpPr/>
          <p:nvPr/>
        </p:nvSpPr>
        <p:spPr>
          <a:xfrm>
            <a:off x="500040" y="357120"/>
            <a:ext cx="47926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三、巩固练习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07" name="图片 23554" descr="28"/>
          <p:cNvPicPr/>
          <p:nvPr/>
        </p:nvPicPr>
        <p:blipFill>
          <a:blip r:embed="rId1"/>
          <a:stretch/>
        </p:blipFill>
        <p:spPr>
          <a:xfrm>
            <a:off x="1436760" y="1476360"/>
            <a:ext cx="4681440" cy="2158920"/>
          </a:xfrm>
          <a:prstGeom prst="rect">
            <a:avLst/>
          </a:prstGeom>
          <a:ln w="0">
            <a:noFill/>
          </a:ln>
        </p:spPr>
      </p:pic>
      <p:sp>
        <p:nvSpPr>
          <p:cNvPr id="1508" name="矩形 23555"/>
          <p:cNvSpPr/>
          <p:nvPr/>
        </p:nvSpPr>
        <p:spPr>
          <a:xfrm>
            <a:off x="745200" y="1556280"/>
            <a:ext cx="5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.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09" name="矩形 23556"/>
          <p:cNvSpPr/>
          <p:nvPr/>
        </p:nvSpPr>
        <p:spPr>
          <a:xfrm>
            <a:off x="1001880" y="338472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根据上面的路线图，说一说小玲从家去书店和回来时所走的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方向和路程，并完成下表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1510" name=""/>
          <p:cNvGraphicFramePr/>
          <p:nvPr/>
        </p:nvGraphicFramePr>
        <p:xfrm>
          <a:off x="1704960" y="4187880"/>
          <a:ext cx="5400720" cy="2193840"/>
        </p:xfrm>
        <a:graphic>
          <a:graphicData uri="http://schemas.openxmlformats.org/drawingml/2006/table">
            <a:tbl>
              <a:tblPr/>
              <a:tblGrid>
                <a:gridCol w="1584360"/>
                <a:gridCol w="1353960"/>
                <a:gridCol w="1095480"/>
                <a:gridCol w="1366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方向</a:t>
                      </a:r>
                      <a:endParaRPr b="0" i="1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路程</a:t>
                      </a:r>
                      <a:endParaRPr b="0" i="1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时间</a:t>
                      </a:r>
                      <a:endParaRPr b="0" i="1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家→商场</a:t>
                      </a:r>
                      <a:endParaRPr b="0" i="1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15</a:t>
                      </a:r>
                      <a:r>
                        <a:rPr b="0" i="1" lang="zh-CN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分</a:t>
                      </a:r>
                      <a:endParaRPr b="0" i="1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商场→书店</a:t>
                      </a:r>
                      <a:endParaRPr b="0" i="1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7</a:t>
                      </a:r>
                      <a:r>
                        <a:rPr b="0" i="1" lang="zh-CN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分</a:t>
                      </a:r>
                      <a:endParaRPr b="0" i="1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书店→商场</a:t>
                      </a:r>
                      <a:endParaRPr b="0" i="1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8</a:t>
                      </a:r>
                      <a:r>
                        <a:rPr b="0" i="1" lang="zh-CN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分</a:t>
                      </a:r>
                      <a:endParaRPr b="0" i="1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商场→家</a:t>
                      </a:r>
                      <a:endParaRPr b="0" i="1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18</a:t>
                      </a:r>
                      <a:r>
                        <a:rPr b="0" i="1" lang="zh-CN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分</a:t>
                      </a:r>
                      <a:endParaRPr b="0" i="1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全程</a:t>
                      </a:r>
                      <a:endParaRPr b="0" i="1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1" name="矩形 23597"/>
          <p:cNvSpPr/>
          <p:nvPr/>
        </p:nvSpPr>
        <p:spPr>
          <a:xfrm>
            <a:off x="938160" y="6254640"/>
            <a:ext cx="56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小玲走完全程的平均速度是多少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2" name="文本框 23598"/>
          <p:cNvSpPr/>
          <p:nvPr/>
        </p:nvSpPr>
        <p:spPr>
          <a:xfrm>
            <a:off x="3414600" y="4498920"/>
            <a:ext cx="13683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西偏北</a:t>
            </a:r>
            <a:r>
              <a:rPr b="0" i="1" lang="en-US" sz="16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30°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3" name="文本框 23599"/>
          <p:cNvSpPr/>
          <p:nvPr/>
        </p:nvSpPr>
        <p:spPr>
          <a:xfrm>
            <a:off x="4754520" y="4498920"/>
            <a:ext cx="13683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1000</a:t>
            </a:r>
            <a:r>
              <a:rPr b="0" i="1" lang="en-US" sz="16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m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4" name="文本框 23600"/>
          <p:cNvSpPr/>
          <p:nvPr/>
        </p:nvSpPr>
        <p:spPr>
          <a:xfrm>
            <a:off x="3414600" y="4815000"/>
            <a:ext cx="13683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西偏南</a:t>
            </a:r>
            <a:r>
              <a:rPr b="0" i="1" lang="en-US" sz="16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45°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5" name="文本框 23601"/>
          <p:cNvSpPr/>
          <p:nvPr/>
        </p:nvSpPr>
        <p:spPr>
          <a:xfrm>
            <a:off x="4840200" y="4815000"/>
            <a:ext cx="13683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400</a:t>
            </a:r>
            <a:r>
              <a:rPr b="0" i="1" lang="en-US" sz="16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m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6" name="文本框 23602"/>
          <p:cNvSpPr/>
          <p:nvPr/>
        </p:nvSpPr>
        <p:spPr>
          <a:xfrm>
            <a:off x="3409920" y="5173560"/>
            <a:ext cx="13683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东偏北</a:t>
            </a:r>
            <a:r>
              <a:rPr b="0" i="1" lang="en-US" sz="16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45°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7" name="文本框 23603"/>
          <p:cNvSpPr/>
          <p:nvPr/>
        </p:nvSpPr>
        <p:spPr>
          <a:xfrm>
            <a:off x="3419640" y="5526000"/>
            <a:ext cx="13683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西偏南</a:t>
            </a:r>
            <a:r>
              <a:rPr b="0" i="1" lang="en-US" sz="16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30°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8" name="文本框 23604"/>
          <p:cNvSpPr/>
          <p:nvPr/>
        </p:nvSpPr>
        <p:spPr>
          <a:xfrm>
            <a:off x="4840200" y="5165640"/>
            <a:ext cx="13683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400</a:t>
            </a:r>
            <a:r>
              <a:rPr b="0" i="1" lang="en-US" sz="16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m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9" name="文本框 23605"/>
          <p:cNvSpPr/>
          <p:nvPr/>
        </p:nvSpPr>
        <p:spPr>
          <a:xfrm>
            <a:off x="4745160" y="5510160"/>
            <a:ext cx="13683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1000</a:t>
            </a:r>
            <a:r>
              <a:rPr b="0" i="1" lang="en-US" sz="16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m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0" name="文本框 23606"/>
          <p:cNvSpPr/>
          <p:nvPr/>
        </p:nvSpPr>
        <p:spPr>
          <a:xfrm>
            <a:off x="4754520" y="5848200"/>
            <a:ext cx="13683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2800</a:t>
            </a:r>
            <a:r>
              <a:rPr b="0" i="1" lang="en-US" sz="16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m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1" name="文本框 23607"/>
          <p:cNvSpPr/>
          <p:nvPr/>
        </p:nvSpPr>
        <p:spPr>
          <a:xfrm>
            <a:off x="6102360" y="5862600"/>
            <a:ext cx="13683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48</a:t>
            </a:r>
            <a:r>
              <a:rPr b="0" i="1" lang="zh-CN" sz="16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分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矩形 24577"/>
          <p:cNvSpPr/>
          <p:nvPr/>
        </p:nvSpPr>
        <p:spPr>
          <a:xfrm>
            <a:off x="728640" y="15685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“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路公共汽车从起点站向西偏北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0°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行驶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km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后向西行驶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km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，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最后向南偏西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0°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行驶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km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到达终点站。”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根据上面的描述，把公共汽车行驶的路线图画完整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3" name="Rectangle 2"/>
          <p:cNvSpPr/>
          <p:nvPr/>
        </p:nvSpPr>
        <p:spPr>
          <a:xfrm>
            <a:off x="500040" y="357120"/>
            <a:ext cx="47926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三、巩固练习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4" name="矩形 24579"/>
          <p:cNvSpPr/>
          <p:nvPr/>
        </p:nvSpPr>
        <p:spPr>
          <a:xfrm>
            <a:off x="430920" y="1556280"/>
            <a:ext cx="5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.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25" name="组合 24580"/>
          <p:cNvGrpSpPr/>
          <p:nvPr/>
        </p:nvGrpSpPr>
        <p:grpSpPr>
          <a:xfrm>
            <a:off x="5659560" y="4348080"/>
            <a:ext cx="1079280" cy="1079640"/>
            <a:chOff x="5659560" y="4348080"/>
            <a:chExt cx="1079280" cy="1079640"/>
          </a:xfrm>
        </p:grpSpPr>
        <p:sp>
          <p:nvSpPr>
            <p:cNvPr id="1526" name="直接连接符 24581"/>
            <p:cNvSpPr/>
            <p:nvPr/>
          </p:nvSpPr>
          <p:spPr>
            <a:xfrm>
              <a:off x="5659560" y="4889520"/>
              <a:ext cx="10792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27" name="直接连接符 24582"/>
            <p:cNvSpPr/>
            <p:nvPr/>
          </p:nvSpPr>
          <p:spPr>
            <a:xfrm>
              <a:off x="6235560" y="4348080"/>
              <a:ext cx="0" cy="107964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528" name="直接连接符 24583"/>
          <p:cNvSpPr/>
          <p:nvPr/>
        </p:nvSpPr>
        <p:spPr>
          <a:xfrm flipV="1">
            <a:off x="6523200" y="3193920"/>
            <a:ext cx="0" cy="433440"/>
          </a:xfrm>
          <a:prstGeom prst="line">
            <a:avLst/>
          </a:prstGeom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9" name="文本框 24584"/>
          <p:cNvSpPr/>
          <p:nvPr/>
        </p:nvSpPr>
        <p:spPr>
          <a:xfrm>
            <a:off x="6291360" y="2825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北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0" name="圆角矩形 24585"/>
          <p:cNvSpPr/>
          <p:nvPr/>
        </p:nvSpPr>
        <p:spPr>
          <a:xfrm>
            <a:off x="1042920" y="2852640"/>
            <a:ext cx="6505560" cy="2808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1" name="矩形 24586"/>
          <p:cNvSpPr/>
          <p:nvPr/>
        </p:nvSpPr>
        <p:spPr>
          <a:xfrm>
            <a:off x="4247640" y="5776920"/>
            <a:ext cx="109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根据路线图，说一说公共汽车沿原路返回时所行驶的方向和路程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32" name="组合 24587"/>
          <p:cNvGrpSpPr/>
          <p:nvPr/>
        </p:nvGrpSpPr>
        <p:grpSpPr>
          <a:xfrm>
            <a:off x="1932120" y="4797360"/>
            <a:ext cx="720720" cy="441000"/>
            <a:chOff x="1932120" y="4797360"/>
            <a:chExt cx="720720" cy="441000"/>
          </a:xfrm>
        </p:grpSpPr>
        <p:grpSp>
          <p:nvGrpSpPr>
            <p:cNvPr id="1533" name="组合 24588"/>
            <p:cNvGrpSpPr/>
            <p:nvPr/>
          </p:nvGrpSpPr>
          <p:grpSpPr>
            <a:xfrm>
              <a:off x="2057760" y="5167080"/>
              <a:ext cx="360360" cy="71280"/>
              <a:chOff x="2057760" y="5167080"/>
              <a:chExt cx="360360" cy="71280"/>
            </a:xfrm>
          </p:grpSpPr>
          <p:sp>
            <p:nvSpPr>
              <p:cNvPr id="1534" name="直接连接符 24589"/>
              <p:cNvSpPr/>
              <p:nvPr/>
            </p:nvSpPr>
            <p:spPr>
              <a:xfrm>
                <a:off x="2057760" y="5238360"/>
                <a:ext cx="36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35" name="直接连接符 24590"/>
              <p:cNvSpPr/>
              <p:nvPr/>
            </p:nvSpPr>
            <p:spPr>
              <a:xfrm>
                <a:off x="2057760" y="5167080"/>
                <a:ext cx="0" cy="71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36" name="直接连接符 24591"/>
              <p:cNvSpPr/>
              <p:nvPr/>
            </p:nvSpPr>
            <p:spPr>
              <a:xfrm>
                <a:off x="2418120" y="5167080"/>
                <a:ext cx="0" cy="71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537" name="文本框 24592"/>
            <p:cNvSpPr/>
            <p:nvPr/>
          </p:nvSpPr>
          <p:spPr>
            <a:xfrm>
              <a:off x="1932120" y="4797360"/>
              <a:ext cx="7207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r>
                <a:rPr b="0" i="1" lang="en-US" sz="16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km</a:t>
              </a:r>
              <a:endParaRPr b="0" i="1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38" name="组合 24593"/>
          <p:cNvGrpSpPr/>
          <p:nvPr/>
        </p:nvGrpSpPr>
        <p:grpSpPr>
          <a:xfrm>
            <a:off x="5392440" y="4157640"/>
            <a:ext cx="849960" cy="781920"/>
            <a:chOff x="5392440" y="4157640"/>
            <a:chExt cx="849960" cy="781920"/>
          </a:xfrm>
        </p:grpSpPr>
        <p:grpSp>
          <p:nvGrpSpPr>
            <p:cNvPr id="1539" name="组合 24594"/>
            <p:cNvGrpSpPr/>
            <p:nvPr/>
          </p:nvGrpSpPr>
          <p:grpSpPr>
            <a:xfrm>
              <a:off x="5392440" y="4157640"/>
              <a:ext cx="849960" cy="781920"/>
              <a:chOff x="5392440" y="4157640"/>
              <a:chExt cx="849960" cy="781920"/>
            </a:xfrm>
          </p:grpSpPr>
          <p:grpSp>
            <p:nvGrpSpPr>
              <p:cNvPr id="1540" name="组合 24595"/>
              <p:cNvGrpSpPr/>
              <p:nvPr/>
            </p:nvGrpSpPr>
            <p:grpSpPr>
              <a:xfrm>
                <a:off x="5392440" y="4157640"/>
                <a:ext cx="836280" cy="781920"/>
                <a:chOff x="5392440" y="4157640"/>
                <a:chExt cx="836280" cy="781920"/>
              </a:xfrm>
            </p:grpSpPr>
            <p:grpSp>
              <p:nvGrpSpPr>
                <p:cNvPr id="1541" name="组合 24596"/>
                <p:cNvGrpSpPr/>
                <p:nvPr/>
              </p:nvGrpSpPr>
              <p:grpSpPr>
                <a:xfrm>
                  <a:off x="5683320" y="4398480"/>
                  <a:ext cx="284400" cy="265320"/>
                  <a:chOff x="5683320" y="4398480"/>
                  <a:chExt cx="284400" cy="265320"/>
                </a:xfrm>
              </p:grpSpPr>
              <p:sp>
                <p:nvSpPr>
                  <p:cNvPr id="1542" name="直接连接符 24597"/>
                  <p:cNvSpPr/>
                  <p:nvPr/>
                </p:nvSpPr>
                <p:spPr>
                  <a:xfrm>
                    <a:off x="5691960" y="4432680"/>
                    <a:ext cx="275760" cy="2311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543" name="直接连接符 24598"/>
                  <p:cNvSpPr/>
                  <p:nvPr/>
                </p:nvSpPr>
                <p:spPr>
                  <a:xfrm flipV="1">
                    <a:off x="5683320" y="4398480"/>
                    <a:ext cx="30240" cy="38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544" name="组合 24599"/>
                <p:cNvGrpSpPr/>
                <p:nvPr/>
              </p:nvGrpSpPr>
              <p:grpSpPr>
                <a:xfrm>
                  <a:off x="5392440" y="4157640"/>
                  <a:ext cx="836280" cy="781920"/>
                  <a:chOff x="5392440" y="4157640"/>
                  <a:chExt cx="836280" cy="781920"/>
                </a:xfrm>
              </p:grpSpPr>
              <p:grpSp>
                <p:nvGrpSpPr>
                  <p:cNvPr id="1545" name="组合 24600"/>
                  <p:cNvGrpSpPr/>
                  <p:nvPr/>
                </p:nvGrpSpPr>
                <p:grpSpPr>
                  <a:xfrm>
                    <a:off x="5396040" y="4158720"/>
                    <a:ext cx="284400" cy="265320"/>
                    <a:chOff x="5396040" y="4158720"/>
                    <a:chExt cx="284400" cy="265320"/>
                  </a:xfrm>
                </p:grpSpPr>
                <p:sp>
                  <p:nvSpPr>
                    <p:cNvPr id="1546" name="直接连接符 24601"/>
                    <p:cNvSpPr/>
                    <p:nvPr/>
                  </p:nvSpPr>
                  <p:spPr>
                    <a:xfrm>
                      <a:off x="5404680" y="4192920"/>
                      <a:ext cx="275760" cy="2311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47" name="直接连接符 24602"/>
                    <p:cNvSpPr/>
                    <p:nvPr/>
                  </p:nvSpPr>
                  <p:spPr>
                    <a:xfrm flipV="1">
                      <a:off x="5396040" y="4158720"/>
                      <a:ext cx="30240" cy="385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280" bIns="-828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sp>
                <p:nvSpPr>
                  <p:cNvPr id="1548" name="椭圆 24603"/>
                  <p:cNvSpPr/>
                  <p:nvPr/>
                </p:nvSpPr>
                <p:spPr>
                  <a:xfrm>
                    <a:off x="5392440" y="4157640"/>
                    <a:ext cx="36360" cy="36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549" name="文本框 24604"/>
                  <p:cNvSpPr/>
                  <p:nvPr/>
                </p:nvSpPr>
                <p:spPr>
                  <a:xfrm>
                    <a:off x="5510160" y="4516560"/>
                    <a:ext cx="71856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40</a:t>
                    </a:r>
                    <a:r>
                      <a:rPr b="0" i="1" lang="en-US" sz="1800" spc="-1" strike="noStrike" u="sng">
                        <a:solidFill>
                          <a:srgbClr val="000000"/>
                        </a:solidFill>
                        <a:uFillTx/>
                        <a:latin typeface="楷体_GB2312"/>
                        <a:ea typeface="楷体_GB2312"/>
                      </a:rPr>
                      <a:t>°</a:t>
                    </a:r>
                    <a:endParaRPr b="0" i="1" lang="en-US" sz="18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50" name="组合 24605"/>
              <p:cNvGrpSpPr/>
              <p:nvPr/>
            </p:nvGrpSpPr>
            <p:grpSpPr>
              <a:xfrm>
                <a:off x="5958000" y="4630320"/>
                <a:ext cx="284400" cy="265320"/>
                <a:chOff x="5958000" y="4630320"/>
                <a:chExt cx="284400" cy="265320"/>
              </a:xfrm>
            </p:grpSpPr>
            <p:sp>
              <p:nvSpPr>
                <p:cNvPr id="1551" name="直接连接符 24606"/>
                <p:cNvSpPr/>
                <p:nvPr/>
              </p:nvSpPr>
              <p:spPr>
                <a:xfrm>
                  <a:off x="5966640" y="4664520"/>
                  <a:ext cx="275760" cy="231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52" name="直接连接符 24607"/>
                <p:cNvSpPr/>
                <p:nvPr/>
              </p:nvSpPr>
              <p:spPr>
                <a:xfrm flipV="1">
                  <a:off x="5958000" y="4630320"/>
                  <a:ext cx="30240" cy="38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  <p:sp>
          <p:nvSpPr>
            <p:cNvPr id="1553" name="任意多边形 24608"/>
            <p:cNvSpPr/>
            <p:nvPr/>
          </p:nvSpPr>
          <p:spPr>
            <a:xfrm flipH="1">
              <a:off x="5957640" y="4726080"/>
              <a:ext cx="71280" cy="1443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54" name="组合 24609"/>
          <p:cNvGrpSpPr/>
          <p:nvPr/>
        </p:nvGrpSpPr>
        <p:grpSpPr>
          <a:xfrm>
            <a:off x="2932200" y="3666600"/>
            <a:ext cx="3033720" cy="1728360"/>
            <a:chOff x="2932200" y="3666600"/>
            <a:chExt cx="3033720" cy="1728360"/>
          </a:xfrm>
        </p:grpSpPr>
        <p:grpSp>
          <p:nvGrpSpPr>
            <p:cNvPr id="1555" name="组合 24610"/>
            <p:cNvGrpSpPr/>
            <p:nvPr/>
          </p:nvGrpSpPr>
          <p:grpSpPr>
            <a:xfrm>
              <a:off x="3438720" y="3666600"/>
              <a:ext cx="2527200" cy="1089360"/>
              <a:chOff x="3438720" y="3666600"/>
              <a:chExt cx="2527200" cy="1089360"/>
            </a:xfrm>
          </p:grpSpPr>
          <p:sp>
            <p:nvSpPr>
              <p:cNvPr id="1556" name="直接连接符 24611"/>
              <p:cNvSpPr/>
              <p:nvPr/>
            </p:nvSpPr>
            <p:spPr>
              <a:xfrm>
                <a:off x="3438720" y="4184640"/>
                <a:ext cx="1079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57" name="直接连接符 24612"/>
              <p:cNvSpPr/>
              <p:nvPr/>
            </p:nvSpPr>
            <p:spPr>
              <a:xfrm flipV="1">
                <a:off x="3963960" y="3676680"/>
                <a:ext cx="0" cy="107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58" name="直接连接符 24613"/>
              <p:cNvSpPr/>
              <p:nvPr/>
            </p:nvSpPr>
            <p:spPr>
              <a:xfrm>
                <a:off x="4886640" y="4184640"/>
                <a:ext cx="1079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59" name="直接连接符 24614"/>
              <p:cNvSpPr/>
              <p:nvPr/>
            </p:nvSpPr>
            <p:spPr>
              <a:xfrm flipV="1">
                <a:off x="5411880" y="3666600"/>
                <a:ext cx="0" cy="1079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560" name="组合 24615"/>
              <p:cNvGrpSpPr/>
              <p:nvPr/>
            </p:nvGrpSpPr>
            <p:grpSpPr>
              <a:xfrm>
                <a:off x="3942000" y="4111560"/>
                <a:ext cx="1468440" cy="87480"/>
                <a:chOff x="3942000" y="4111560"/>
                <a:chExt cx="1468440" cy="87480"/>
              </a:xfrm>
            </p:grpSpPr>
            <p:grpSp>
              <p:nvGrpSpPr>
                <p:cNvPr id="1561" name="组合 24616"/>
                <p:cNvGrpSpPr/>
                <p:nvPr/>
              </p:nvGrpSpPr>
              <p:grpSpPr>
                <a:xfrm>
                  <a:off x="3965760" y="4111560"/>
                  <a:ext cx="1444680" cy="82440"/>
                  <a:chOff x="3965760" y="4111560"/>
                  <a:chExt cx="1444680" cy="82440"/>
                </a:xfrm>
              </p:grpSpPr>
              <p:grpSp>
                <p:nvGrpSpPr>
                  <p:cNvPr id="1562" name="组合 24617"/>
                  <p:cNvGrpSpPr/>
                  <p:nvPr/>
                </p:nvGrpSpPr>
                <p:grpSpPr>
                  <a:xfrm>
                    <a:off x="3965760" y="4111560"/>
                    <a:ext cx="1444680" cy="82440"/>
                    <a:chOff x="3965760" y="4111560"/>
                    <a:chExt cx="1444680" cy="82440"/>
                  </a:xfrm>
                </p:grpSpPr>
                <p:sp>
                  <p:nvSpPr>
                    <p:cNvPr id="1563" name="直接连接符 24618"/>
                    <p:cNvSpPr/>
                    <p:nvPr/>
                  </p:nvSpPr>
                  <p:spPr>
                    <a:xfrm>
                      <a:off x="3965760" y="4184640"/>
                      <a:ext cx="36036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grpSp>
                  <p:nvGrpSpPr>
                    <p:cNvPr id="1564" name="组合 24619"/>
                    <p:cNvGrpSpPr/>
                    <p:nvPr/>
                  </p:nvGrpSpPr>
                  <p:grpSpPr>
                    <a:xfrm>
                      <a:off x="5050080" y="4111560"/>
                      <a:ext cx="360360" cy="71280"/>
                      <a:chOff x="5050080" y="4111560"/>
                      <a:chExt cx="360360" cy="71280"/>
                    </a:xfrm>
                  </p:grpSpPr>
                  <p:sp>
                    <p:nvSpPr>
                      <p:cNvPr id="1565" name="直接连接符 24620"/>
                      <p:cNvSpPr/>
                      <p:nvPr/>
                    </p:nvSpPr>
                    <p:spPr>
                      <a:xfrm>
                        <a:off x="5050080" y="4182840"/>
                        <a:ext cx="36036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  <p:sp>
                    <p:nvSpPr>
                      <p:cNvPr id="1566" name="直接连接符 24621"/>
                      <p:cNvSpPr/>
                      <p:nvPr/>
                    </p:nvSpPr>
                    <p:spPr>
                      <a:xfrm>
                        <a:off x="5050080" y="4111560"/>
                        <a:ext cx="0" cy="7128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480" bIns="24480" anchor="t">
                        <a:noAutofit/>
                      </a:bodyPr>
                      <a:p>
                        <a:endPara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67" name="组合 24622"/>
                    <p:cNvGrpSpPr/>
                    <p:nvPr/>
                  </p:nvGrpSpPr>
                  <p:grpSpPr>
                    <a:xfrm>
                      <a:off x="4694400" y="4122720"/>
                      <a:ext cx="360360" cy="71280"/>
                      <a:chOff x="4694400" y="4122720"/>
                      <a:chExt cx="360360" cy="71280"/>
                    </a:xfrm>
                  </p:grpSpPr>
                  <p:sp>
                    <p:nvSpPr>
                      <p:cNvPr id="1568" name="直接连接符 24623"/>
                      <p:cNvSpPr/>
                      <p:nvPr/>
                    </p:nvSpPr>
                    <p:spPr>
                      <a:xfrm>
                        <a:off x="4694400" y="4184640"/>
                        <a:ext cx="36036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  <p:sp>
                    <p:nvSpPr>
                      <p:cNvPr id="1569" name="直接连接符 24624"/>
                      <p:cNvSpPr/>
                      <p:nvPr/>
                    </p:nvSpPr>
                    <p:spPr>
                      <a:xfrm>
                        <a:off x="4694400" y="4122720"/>
                        <a:ext cx="0" cy="7128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480" bIns="24480" anchor="t">
                        <a:noAutofit/>
                      </a:bodyPr>
                      <a:p>
                        <a:endPara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570" name="直接连接符 24625"/>
                    <p:cNvSpPr/>
                    <p:nvPr/>
                  </p:nvSpPr>
                  <p:spPr>
                    <a:xfrm>
                      <a:off x="4329360" y="4184640"/>
                      <a:ext cx="36036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sp>
                <p:nvSpPr>
                  <p:cNvPr id="1571" name="直接连接符 24626"/>
                  <p:cNvSpPr/>
                  <p:nvPr/>
                </p:nvSpPr>
                <p:spPr>
                  <a:xfrm>
                    <a:off x="4329360" y="411336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1572" name="椭圆 24627"/>
                <p:cNvSpPr/>
                <p:nvPr/>
              </p:nvSpPr>
              <p:spPr>
                <a:xfrm>
                  <a:off x="3942000" y="4162320"/>
                  <a:ext cx="36360" cy="367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  <p:grpSp>
          <p:nvGrpSpPr>
            <p:cNvPr id="1573" name="组合 24628"/>
            <p:cNvGrpSpPr/>
            <p:nvPr/>
          </p:nvGrpSpPr>
          <p:grpSpPr>
            <a:xfrm>
              <a:off x="2932200" y="4181760"/>
              <a:ext cx="1700280" cy="1213200"/>
              <a:chOff x="2932200" y="4181760"/>
              <a:chExt cx="1700280" cy="1213200"/>
            </a:xfrm>
          </p:grpSpPr>
          <p:grpSp>
            <p:nvGrpSpPr>
              <p:cNvPr id="1574" name="组合 24629"/>
              <p:cNvGrpSpPr/>
              <p:nvPr/>
            </p:nvGrpSpPr>
            <p:grpSpPr>
              <a:xfrm>
                <a:off x="2932200" y="4181760"/>
                <a:ext cx="1700280" cy="1213200"/>
                <a:chOff x="2932200" y="4181760"/>
                <a:chExt cx="1700280" cy="1213200"/>
              </a:xfrm>
            </p:grpSpPr>
            <p:grpSp>
              <p:nvGrpSpPr>
                <p:cNvPr id="1575" name="组合 24630"/>
                <p:cNvGrpSpPr/>
                <p:nvPr/>
              </p:nvGrpSpPr>
              <p:grpSpPr>
                <a:xfrm>
                  <a:off x="3424320" y="4181760"/>
                  <a:ext cx="529920" cy="899640"/>
                  <a:chOff x="3424320" y="4181760"/>
                  <a:chExt cx="529920" cy="899640"/>
                </a:xfrm>
              </p:grpSpPr>
              <p:grpSp>
                <p:nvGrpSpPr>
                  <p:cNvPr id="1576" name="组合 24631"/>
                  <p:cNvGrpSpPr/>
                  <p:nvPr/>
                </p:nvGrpSpPr>
                <p:grpSpPr>
                  <a:xfrm>
                    <a:off x="3774240" y="4181760"/>
                    <a:ext cx="180000" cy="336600"/>
                    <a:chOff x="3774240" y="4181760"/>
                    <a:chExt cx="180000" cy="336600"/>
                  </a:xfrm>
                </p:grpSpPr>
                <p:sp>
                  <p:nvSpPr>
                    <p:cNvPr id="1577" name="直接连接符 24632"/>
                    <p:cNvSpPr/>
                    <p:nvPr/>
                  </p:nvSpPr>
                  <p:spPr>
                    <a:xfrm flipH="1">
                      <a:off x="3774240" y="4181760"/>
                      <a:ext cx="180000" cy="312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78" name="直接连接符 24633"/>
                    <p:cNvSpPr/>
                    <p:nvPr/>
                  </p:nvSpPr>
                  <p:spPr>
                    <a:xfrm flipH="1" flipV="1">
                      <a:off x="3782880" y="4482360"/>
                      <a:ext cx="62280" cy="3600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79" name="组合 24634"/>
                  <p:cNvGrpSpPr/>
                  <p:nvPr/>
                </p:nvGrpSpPr>
                <p:grpSpPr>
                  <a:xfrm>
                    <a:off x="3610440" y="4463280"/>
                    <a:ext cx="180000" cy="336600"/>
                    <a:chOff x="3610440" y="4463280"/>
                    <a:chExt cx="180000" cy="336600"/>
                  </a:xfrm>
                </p:grpSpPr>
                <p:sp>
                  <p:nvSpPr>
                    <p:cNvPr id="1580" name="直接连接符 24635"/>
                    <p:cNvSpPr/>
                    <p:nvPr/>
                  </p:nvSpPr>
                  <p:spPr>
                    <a:xfrm flipH="1">
                      <a:off x="3610440" y="4463280"/>
                      <a:ext cx="180000" cy="312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81" name="直接连接符 24636"/>
                    <p:cNvSpPr/>
                    <p:nvPr/>
                  </p:nvSpPr>
                  <p:spPr>
                    <a:xfrm flipH="1" flipV="1">
                      <a:off x="3619080" y="4763880"/>
                      <a:ext cx="62280" cy="3600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sp>
                <p:nvSpPr>
                  <p:cNvPr id="1582" name="直接连接符 24637"/>
                  <p:cNvSpPr/>
                  <p:nvPr/>
                </p:nvSpPr>
                <p:spPr>
                  <a:xfrm flipH="1">
                    <a:off x="3440880" y="4749480"/>
                    <a:ext cx="180360" cy="31248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583" name="椭圆 24638"/>
                  <p:cNvSpPr/>
                  <p:nvPr/>
                </p:nvSpPr>
                <p:spPr>
                  <a:xfrm>
                    <a:off x="3424320" y="5045040"/>
                    <a:ext cx="36720" cy="363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1584" name="文本框 24639"/>
                <p:cNvSpPr/>
                <p:nvPr/>
              </p:nvSpPr>
              <p:spPr>
                <a:xfrm>
                  <a:off x="2932200" y="4971960"/>
                  <a:ext cx="11509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1800" spc="-1" strike="noStrike" u="sng">
                      <a:solidFill>
                        <a:srgbClr val="ff0000"/>
                      </a:solidFill>
                      <a:uFillTx/>
                      <a:latin typeface="楷体_GB2312"/>
                      <a:ea typeface="楷体_GB2312"/>
                    </a:rPr>
                    <a:t>终点站</a:t>
                  </a:r>
                  <a:endParaRPr b="0" i="1" lang="en-US" sz="18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85" name="文本框 24640"/>
                <p:cNvSpPr/>
                <p:nvPr/>
              </p:nvSpPr>
              <p:spPr>
                <a:xfrm>
                  <a:off x="3624480" y="4410000"/>
                  <a:ext cx="1008000" cy="53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 u="sng">
                      <a:solidFill>
                        <a:srgbClr val="ff0000"/>
                      </a:solidFill>
                      <a:uFillTx/>
                      <a:latin typeface="Arial"/>
                      <a:ea typeface="楷体_GB2312"/>
                    </a:rPr>
                    <a:t>30</a:t>
                  </a:r>
                  <a:r>
                    <a:rPr b="0" i="1" lang="en-US" sz="2400" spc="-1" strike="noStrike" u="sng">
                      <a:solidFill>
                        <a:srgbClr val="ff0000"/>
                      </a:solidFill>
                      <a:uFillTx/>
                      <a:latin typeface="楷体_GB2312"/>
                      <a:ea typeface="楷体_GB2312"/>
                    </a:rPr>
                    <a:t>°</a:t>
                  </a: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586" name="任意多边形 24641"/>
              <p:cNvSpPr/>
              <p:nvPr/>
            </p:nvSpPr>
            <p:spPr>
              <a:xfrm rot="7636800">
                <a:off x="3876120" y="4322160"/>
                <a:ext cx="54000" cy="1429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四、全课总结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88" name="TextBox 4"/>
          <p:cNvSpPr/>
          <p:nvPr/>
        </p:nvSpPr>
        <p:spPr>
          <a:xfrm>
            <a:off x="1103400" y="2266920"/>
            <a:ext cx="7572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今天都有哪些收获？还有什么问题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Picture 2" descr="星08"/>
          <p:cNvPicPr/>
          <p:nvPr/>
        </p:nvPicPr>
        <p:blipFill>
          <a:blip r:embed="rId1"/>
          <a:stretch/>
        </p:blipFill>
        <p:spPr>
          <a:xfrm>
            <a:off x="7315200" y="68580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590" name="Picture 3" descr="星08"/>
          <p:cNvPicPr/>
          <p:nvPr/>
        </p:nvPicPr>
        <p:blipFill>
          <a:blip r:embed="rId2"/>
          <a:stretch/>
        </p:blipFill>
        <p:spPr>
          <a:xfrm>
            <a:off x="304920" y="4876920"/>
            <a:ext cx="884160" cy="884160"/>
          </a:xfrm>
          <a:prstGeom prst="rect">
            <a:avLst/>
          </a:prstGeom>
          <a:ln w="0">
            <a:noFill/>
          </a:ln>
        </p:spPr>
      </p:pic>
      <p:sp>
        <p:nvSpPr>
          <p:cNvPr id="1591" name="WordArt 4"/>
          <p:cNvSpPr txBox="1"/>
          <p:nvPr/>
        </p:nvSpPr>
        <p:spPr>
          <a:xfrm>
            <a:off x="1523880" y="4572000"/>
            <a:ext cx="6096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uFillTx/>
                <a:latin typeface="宋体"/>
              </a:rPr>
              <a:t>Good Bye!</a:t>
            </a:r>
            <a:endParaRPr b="0" i="1" lang="en-US" sz="3200" spc="-1" strike="noStrike" u="sng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uFillTx/>
              <a:latin typeface="宋体"/>
              <a:ea typeface="宋体"/>
            </a:endParaRPr>
          </a:p>
        </p:txBody>
      </p:sp>
      <p:pic>
        <p:nvPicPr>
          <p:cNvPr id="1592" name="Picture 5" descr="星08"/>
          <p:cNvPicPr/>
          <p:nvPr/>
        </p:nvPicPr>
        <p:blipFill>
          <a:blip r:embed="rId5"/>
          <a:stretch/>
        </p:blipFill>
        <p:spPr>
          <a:xfrm>
            <a:off x="539640" y="5535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593" name="Picture 6" descr="星08"/>
          <p:cNvPicPr/>
          <p:nvPr/>
        </p:nvPicPr>
        <p:blipFill>
          <a:blip r:embed="rId6"/>
          <a:stretch/>
        </p:blipFill>
        <p:spPr>
          <a:xfrm>
            <a:off x="7451640" y="1197000"/>
            <a:ext cx="1258920" cy="790560"/>
          </a:xfrm>
          <a:prstGeom prst="rect">
            <a:avLst/>
          </a:prstGeom>
          <a:ln w="0">
            <a:noFill/>
          </a:ln>
        </p:spPr>
      </p:pic>
      <p:sp>
        <p:nvSpPr>
          <p:cNvPr id="1594" name="WordArt 7"/>
          <p:cNvSpPr txBox="1"/>
          <p:nvPr/>
        </p:nvSpPr>
        <p:spPr>
          <a:xfrm>
            <a:off x="1476360" y="2924280"/>
            <a:ext cx="5832360" cy="71280"/>
          </a:xfrm>
          <a:prstGeom prst="rect">
            <a:avLst/>
          </a:prstGeom>
        </p:spPr>
        <p:txBody>
          <a:bodyPr wrap="none" fromWordArt="1" lIns="90000" rIns="90000" tIns="24840" bIns="24840" anchor="t" anchorCtr="1">
            <a:prstTxWarp prst="textArchUp">
              <a:avLst>
                <a:gd name="adj" fmla="val 108003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 u="sng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uFillTx/>
                <a:latin typeface="宋体"/>
              </a:rPr>
              <a:t>再见</a:t>
            </a:r>
            <a:endParaRPr b="1" i="1" lang="en-US" sz="6600" spc="-1" strike="noStrike" u="sng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uFillTx/>
              <a:latin typeface="宋体"/>
              <a:ea typeface="宋体"/>
            </a:endParaRPr>
          </a:p>
        </p:txBody>
      </p:sp>
      <p:pic>
        <p:nvPicPr>
          <p:cNvPr id="1595" name="Picture 8" descr="星08"/>
          <p:cNvPicPr/>
          <p:nvPr/>
        </p:nvPicPr>
        <p:blipFill>
          <a:blip r:embed="rId9"/>
          <a:stretch/>
        </p:blipFill>
        <p:spPr>
          <a:xfrm>
            <a:off x="539640" y="476280"/>
            <a:ext cx="884520" cy="884160"/>
          </a:xfrm>
          <a:prstGeom prst="rect">
            <a:avLst/>
          </a:prstGeom>
          <a:ln w="0">
            <a:noFill/>
          </a:ln>
        </p:spPr>
      </p:pic>
      <p:pic>
        <p:nvPicPr>
          <p:cNvPr id="1596" name="Picture 9" descr="星08"/>
          <p:cNvPicPr/>
          <p:nvPr/>
        </p:nvPicPr>
        <p:blipFill>
          <a:blip r:embed="rId10"/>
          <a:stretch/>
        </p:blipFill>
        <p:spPr>
          <a:xfrm>
            <a:off x="676440" y="987480"/>
            <a:ext cx="1258560" cy="790560"/>
          </a:xfrm>
          <a:prstGeom prst="rect">
            <a:avLst/>
          </a:prstGeom>
          <a:ln w="0">
            <a:noFill/>
          </a:ln>
        </p:spPr>
      </p:pic>
      <p:pic>
        <p:nvPicPr>
          <p:cNvPr id="1597" name="Picture 10" descr="星08"/>
          <p:cNvPicPr/>
          <p:nvPr/>
        </p:nvPicPr>
        <p:blipFill>
          <a:blip r:embed="rId11"/>
          <a:stretch/>
        </p:blipFill>
        <p:spPr>
          <a:xfrm>
            <a:off x="7451640" y="522936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598" name="Picture 11" descr="星08"/>
          <p:cNvPicPr/>
          <p:nvPr/>
        </p:nvPicPr>
        <p:blipFill>
          <a:blip r:embed="rId12"/>
          <a:stretch/>
        </p:blipFill>
        <p:spPr>
          <a:xfrm>
            <a:off x="7588080" y="5740560"/>
            <a:ext cx="1258920" cy="7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dc:language>en-US</dc:language>
  <cp:lastModifiedBy>万润仪器贸易公司</cp:lastModifiedBy>
  <dcterms:modified xsi:type="dcterms:W3CDTF">2020-08-21T09:35:09Z</dcterms:modified>
  <cp:revision>30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